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068-60AA-4467-8395-4E9862CA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0AC-5A2C-4696-A0AE-92554F5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47E-34AB-4748-B2C5-E51FD682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042-1A9E-4C51-9D2A-B7CDDEE3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B6E-3747-443D-9748-15F6AE7C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E01-2672-4F15-9196-3B7A36F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86B-63B9-4E08-B524-1F0E4A13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794-4686-42BC-80AD-C750BBE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6C7-1B46-4C8E-8313-8BC5F832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E39-00AB-414F-8D0B-3F7F037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B0F-FB38-4416-ACA6-25492A4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8FE-25CA-4347-A5A3-0D5FBB5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D6AA-5F69-4A3C-A1FA-C76D7B82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cuadorupdate.files.wordpress.com/2008/09/full_moon_02_20001.jpg&amp;imgrefurl=http://ecuadorupdate.wordpress.com/2008/09/02/full-moon-hair-cuts-for-todos/&amp;usg=__Jlq9ZCQs3mIWqGqtQ-mSKQ4Zs9U=&amp;h=1772&amp;w=1735&amp;sz=1408&amp;hl=en&amp;start=3&amp;um=1&amp;itbs=1&amp;tbnid=zgjzJvc9cam6uM:&amp;tbnh=150&amp;tbnw=147&amp;prev=/images%3Fq%3Dfull%2Bmoon%26um%3D1%26hl%3Den%26safe%3Dactive%26rls%3Dcom.microsoft:en-us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259.photobucket.com/albums/hh299/Skate-Rocker/FightClub.jpg&amp;imgrefurl=http://www.myspace.com/dj_tereve&amp;usg=__BTM9zMhcvtBVB10wvACCvRBQQJw=&amp;h=472&amp;w=331&amp;sz=65&amp;hl=en&amp;start=4&amp;um=1&amp;itbs=1&amp;tbnid=AhGFrqC6j_qp_M:&amp;tbnh=129&amp;tbnw=90&amp;prev=/images%3Fq%3Dfight%2Bclub%26um%3D1%26hl%3Den%26safe%3Dactive%26sa%3DN%26rls%3Dcom.microsoft:en-us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newvaluestreams.com/wordpress/wp-content/uploads/2009/08/texting-in-class3.jpg&amp;imgrefurl=http://newvaluestreams.com/wordpress/%3Fp%3D750&amp;usg=__mi20F70sJfPCLGnTUH9HHlNlpIo=&amp;h=241&amp;w=227&amp;sz=14&amp;hl=en&amp;start=7&amp;um=1&amp;itbs=1&amp;tbnid=TAODGEcosR04LM:&amp;tbnh=110&amp;tbnw=104&amp;prev=/images%3Fq%3Dtexting%2Bin%2Bclass%26um%3D1%26hl%3Den%26safe%3Dactive%26rls%3Dcom.microsoft:en-us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octorbulldog.files.wordpress.com/2009/07/national-id-card.jpg&amp;imgrefurl=http://doctorbulldog.wordpress.com/2009/07/30/biblical-prophecy-or-international-scam/&amp;usg=__5ZPsCPG7sebn-Jx47UmvDlq77nM=&amp;h=450&amp;w=345&amp;sz=63&amp;hl=en&amp;start=4&amp;um=1&amp;itbs=1&amp;tbnid=97K-38tNyQVKJM:&amp;tbnh=127&amp;tbnw=97&amp;prev=/images%3Fq%3Did%2Bcards%26um%3D1%26hl%3Den%26safe%3Dactive%26rls%3Dcom.microsoft:en-us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hotrod.com/f/10119763%2Bw750%2Bst0/hrdp_0803_33_z%2Bcustom_street_racing_cars%2B1980_chevy_malibu_front_view.jpg&amp;imgrefurl=http://www.hotrod.com/eventcoverage/hrdp_0803_custom_street_racing_cars/photo_33.html&amp;usg=__iPW5JMAfOwnrqwqll0YnhxAsp-M=&amp;h=480&amp;w=640&amp;sz=59&amp;hl=en&amp;start=8&amp;um=1&amp;itbs=1&amp;tbnid=7TO7Mz8eNC5cMM:&amp;tbnh=103&amp;tbnw=137&amp;prev=/images%3Fq%3Dracing%2Bcars%26um%3D1%26hl%3Den%26safe%3Dactive%26rls%3Dcom.microsoft:en-us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cess-overseas.com/images/dea_shirt_logoM.jpg&amp;imgrefurl=http://www.myspace.com/43062563&amp;usg=__eHCqVev-sBKtS032sGfpWLBAR8I=&amp;h=288&amp;w=200&amp;sz=10&amp;hl=en&amp;start=19&amp;um=1&amp;itbs=1&amp;tbnid=8XhgZQ2DNRyogM:&amp;tbnh=115&amp;tbnw=80&amp;prev=/images%3Fq%3Ddea%2Blogo%26um%3D1%26hl%3Den%26safe%3Dactive%26rls%3Dcom.microsoft:en-us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3.amazonaws.com/picable/2006/11/18/9518_Party-In-The-Trunk-of-My-Car_620.jpg&amp;imgrefurl=http://www.picable.com/People/Women/Party-In-The-Trunk-of-My-Car.9075&amp;usg=__RpwmyF_AXu6qL58vWcZS4fve3YA=&amp;h=465&amp;w=620&amp;sz=44&amp;hl=en&amp;start=4&amp;um=1&amp;itbs=1&amp;tbnid=PlpXHaFwdl-_aM:&amp;tbnh=102&amp;tbnw=136&amp;prev=/images%3Fq%3Dkids%2Bin%2Btrunk%2Bof%2Bcar%26um%3D1%26hl%3Den%26safe%3Dactive%26rls%3Dcom.microsoft:en-us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ravelhouseuk.files.wordpress.com/2009/09/alain_robert_spider_man.jpg&amp;imgrefurl=http://travelhouseuk.wordpress.com/2009/09/03/french-spiderman-fined/&amp;usg=__mVFE4kEvDVd5AiJIsdwK7YHaUgE=&amp;h=390&amp;w=510&amp;sz=16&amp;hl=en&amp;start=12&amp;um=1&amp;itbs=1&amp;tbnid=N03fhiJLRjaNtM:&amp;tbnh=100&amp;tbnw=131&amp;prev=/images%3Fq%3Dspiderman%2Bscaling%2Bbuilding%26um%3D1%26hl%3Den%26safe%3Dactive%26rls%3Dcom.microsoft:en-us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smo-id.com/site/afbeeldingen/081124%2520girls%2520shoes.jpg&amp;imgrefurl=http://www.asmo-id.com/site/products/girls/&amp;usg=__8_ERk17rblb4LhTdUfURWo-Qw_4=&amp;h=480&amp;w=480&amp;sz=75&amp;hl=en&amp;start=7&amp;um=1&amp;itbs=1&amp;tbnid=3Zg2e-nd4JnjpM:&amp;tbnh=129&amp;tbnw=129&amp;prev=/images%3Fq%3Dgirls%2Bshoes%26um%3D1%26hl%3Den%26safe%3Dactive%26rls%3Dcom.microsoft:en-us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olishcultureacpc.org/orgs/AmericanFlag.jpg&amp;imgrefurl=http://www.polishcultureacpc.org/orgs/PHSP.html&amp;usg=__WZtGcyUkNlfkooE1feQov-9XVaM=&amp;h=1055&amp;w=1173&amp;sz=72&amp;hl=en&amp;start=11&amp;um=1&amp;itbs=1&amp;tbnid=AFe-TItaJg8STM:&amp;tbnh=135&amp;tbnw=150&amp;prev=/images%3Fq%3Damerican%2Bflag%26um%3D1%26hl%3Den%26safe%3Dactive%26rls%3Dcom.microsoft:en-us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’s Top 10 Things NEVER to do at C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windows while mooning in the M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66688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the #1 thing the administration says you should NEVER do at C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 fight clu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051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ING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666880"/>
            <a:ext cx="4724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omeone else’s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9092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ing cars in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19520"/>
            <a:ext cx="5181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essing/using/distributing/experiencing drugs and/or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97180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ving kids into a trunk of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ing buildings or climb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146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girls shoes… and doing various things with them on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RESPECTING THE NATIONAL ANTHEM…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81952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1:37:53Z</dcterms:created>
  <dc:creator>ASD</dc:creator>
  <dc:description/>
  <dc:language>en-US</dc:language>
  <cp:lastModifiedBy>Tech</cp:lastModifiedBy>
  <dcterms:modified xsi:type="dcterms:W3CDTF">2010-06-03T22:35:45Z</dcterms:modified>
  <cp:revision>4</cp:revision>
  <dc:subject/>
  <dc:title>Administration’s Top 10 Things NEVER to do at CDO</dc:title>
</cp:coreProperties>
</file>